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uardian.co.uk/world/2008/nov/30/mumbai-terrorism-attacks" TargetMode="External"/><Relationship Id="rId2" Type="http://schemas.openxmlformats.org/officeDocument/2006/relationships/hyperlink" Target="http://www.time.com/time/world/article/0,8599,1862661,00.html?cnn=yes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 New Form of Terror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Zaehyun Ha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WI D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does this affect Korea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ighly likely that US will aid India and will require other NATO countries to do the same th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orea is part of NAT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flict in Congr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does this make me feel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cern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lobal confli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conomic impa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it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guardian.co.uk/world/2008/nov/30/mumbai-terrorism-attac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time.com/time/world/article/0,8599,1862661,00.html?cnn=y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http://www.hani.co.kr/arti/international/asiapacific/325034.htm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9" name="Mumbai attack.ppt_media/q6EXry8st5Q-1.mov" descr=""/>
          <p:cNvPicPr/>
          <p:nvPr/>
        </p:nvPicPr>
        <p:blipFill>
          <a:blip r:embed="rId1"/>
          <a:stretch/>
        </p:blipFill>
        <p:spPr>
          <a:xfrm>
            <a:off x="3124080" y="3086280"/>
            <a:ext cx="606132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ere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d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umba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sherman’s Colon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en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rted from November 26th last Wednesda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Assaul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ral gunmen armed with AK-47 and explosives started their attack on wednesda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dia’s agency report that the gunmen had enough ammunition to kill 5000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arged into hotels, restaurants and other public buildin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Assault pt 2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rrorists specifically targeted foreigners especially Americans and Britis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25 killed and 300 injur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rrorists were identified as Muslim extremis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sul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dia claimed that Pakistan supported the terroris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4 years of peace between Pakistan and India is shatter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kistan government said they were willing for a war and already dispatched soldi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sults pt 2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overnment officials resigned for their inability for preventing this attac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ny experts claim that the terror attack will also stall India’s growth rate of 7.6%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new form of terrorist attac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y it is importan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11175840" cy="607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rowing tension between India and Pakistan can lead to a wa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uld lead to a global war where US and the NATO help Ind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t a worldwide depression a terrorist attack on India’s largest financial city could create the loss of foreign investment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